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AC4-1DA0-439D-AA46-2BCBFA85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963-F37E-4442-993B-EDBA847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2BD-0641-4BA6-8252-1C9982E6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9DA1-1488-4FD5-AB3B-FBB0A2A0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B56-EE77-4B97-929C-0281D3E6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3AB-1D41-4EB3-9696-786507E4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1A0-2267-4F44-A1E8-3351FAA1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807-2185-47D6-BDAB-46DE6992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593-7060-48C3-8E6B-211D086F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FF8-ABB2-4268-BFFB-7DCEB52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F15-895A-4271-8C65-0800138A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1BE-3D4C-4AD4-A09F-55CB7CE0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8006-F5F1-42EE-9E25-2F31CAB0C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981080"/>
            <a:ext cx="8487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sson11 Mr.Wood Teaches a Lesson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19810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ne ,line , line ,circle circ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8195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ree li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ak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triangl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35812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quare ,square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4197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ur li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mak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qu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et’s  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16002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lin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triangl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3124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squar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3962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circle is a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shape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8006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They are all 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800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600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600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What’s your favourit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357336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352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My favourite shape is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—————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is my favourite shape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33526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441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447920" y="2286000"/>
          <a:ext cx="6400800" cy="4078440"/>
        </p:xfrm>
        <a:graphic>
          <a:graphicData uri="http://schemas.openxmlformats.org/drawingml/2006/table">
            <a:tbl>
              <a:tblPr/>
              <a:tblGrid>
                <a:gridCol w="1295280"/>
                <a:gridCol w="1219320"/>
                <a:gridCol w="1066680"/>
                <a:gridCol w="1295280"/>
                <a:gridCol w="1524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u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n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     M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295280" y="1371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What’s _____’s   favourite 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3623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18288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Write more sentences about your  favouri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5812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he more the b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4191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越多越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43000" y="182880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 you very much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8-17T02:47:18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